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5.wmf" ContentType="image/x-wmf"/>
  <Override PartName="/ppt/media/image18.gif" ContentType="image/gif"/>
  <Override PartName="/ppt/media/image8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0FE29D-2FB2-46F2-BEF7-F855A9221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2C83D2-07BD-4F12-A6F2-B5C7FDA00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E5063E-3551-4F30-9650-C84222A0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Our turn to share: How we opened up the task…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Started with an existing task (Hula Hoop Activity from TIP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Developed learning goals based on the overall/specific expect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Focus on the big ide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FD5AD6-29D8-4262-85BB-4FFC262B5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70F302-0383-4E44-9463-282989164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AF342E-A7F3-4306-A3D2-160E3DBA5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 the participants to complete the statement:  "What's important about parallel tasks is …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complete on a sticky and post on the door as they le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192845C-A74E-45A2-AAA4-F74E7C4E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A09BCC-728B-422F-BF51-78FD8207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CB35B6-F0F9-424A-B459-72E93986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32B267-BE4A-4907-B33C-3CD413B2B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AD84F9-0A06-4AF7-92EC-A1535AC3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5EC00A-B326-48CB-A515-1B9C92013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B74A3B-69B1-498C-8B4B-A7FE8542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5A4F2A-F555-4A26-BB93-183A3F8CD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E40-2BC6-4206-8035-0DDB43D5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102-5F76-4677-AC10-8756CAFC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F2C-5F53-4168-B8B0-38148301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39B-F85C-4F77-8071-367C7235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80DE-039E-4340-A439-6F06715C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B88E-157E-41A2-A08D-27F95311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FED9-CDEA-4A78-9500-E6FC43A7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CABE-8166-4F10-A3E7-4984F1E5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122E-6974-4486-8CAB-2C0CDA12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0B85-91D6-4528-8E95-871498B8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2816-07F3-4F6A-8C96-8E74D78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4F9-A312-4613-A95B-7CC7C906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8448-A015-47C0-987B-58E50BD5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951D-4B23-4B28-8855-47D7A501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DA15-52C9-4CC0-90FD-A567DD41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A6CF-E0AB-4045-A49B-6327AC8C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DB28-EF04-4604-A996-40384716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AB4-08A4-414E-A3B3-0C15C42D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BD3-2D74-426A-9700-8EE0E537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BFA-E447-42D0-8AFA-5DA72300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4AB-5631-4B18-B63C-C036B611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053-E8A6-4A84-90D8-34FD99FB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245-195E-4A7F-90A7-114A6FF3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246-EA66-4D85-A226-84C65D8E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BCDA-B28F-41ED-9F6A-51951426E06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8388360" cy="185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02520" y="13500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87600" y="2667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2656-255C-4351-9FFC-590BE0011ED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85332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6000" y="15228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43280" y="241200"/>
            <a:ext cx="32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a/imgres?imgurl=http://www.texarkanacollege.edu/~mstorey/NOVA/Image892.jpg&amp;imgrefurl=http://www.texarkanacollege.edu/~mstorey/NOVA/tiworkshops.html&amp;usg=__X0JPtT8oUsEa-Yk6bbQFk-9ediY=&amp;h=287&amp;w=249&amp;sz=21&amp;hl=en&amp;start=6&amp;tbnid=H_2TO7IwNN8LKM:&amp;tbnh=115&amp;tbnw=100&amp;prev=/images%3Fq%3DTI%2BCBR%26gbv%3D2%26hl%3Den%26sa%3D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a/imgres?imgurl=http://www.ti83calculator.net/ti83.jpg&amp;imgrefurl=http://www.ti83calculator.net/&amp;usg=__Uy2lF01SbsJNbCom6Xq3_0bwehY=&amp;h=351&amp;w=225&amp;sz=22&amp;hl=en&amp;start=19&amp;tbnid=1JhiWyS8HNOPrM:&amp;tbnh=120&amp;tbnw=77&amp;prev=/images%3Fq%3DTI%2Bcalculator%26gbv%3D2%26hl%3Den%26sa%3D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5520" y="1989000"/>
            <a:ext cx="6378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90d8"/>
                </a:solidFill>
                <a:latin typeface="Arial"/>
              </a:rPr>
              <a:t>Mathematics</a:t>
            </a:r>
            <a:br>
              <a:rPr sz="3200"/>
            </a:br>
            <a:r>
              <a:rPr b="1" lang="en-US" sz="4800" spc="-1" strike="noStrike">
                <a:solidFill>
                  <a:srgbClr val="20c657"/>
                </a:solidFill>
                <a:latin typeface="Arial"/>
              </a:rPr>
              <a:t>Summer Institute</a:t>
            </a:r>
            <a:br>
              <a:rPr sz="4400"/>
            </a:b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645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b42478"/>
                </a:solidFill>
                <a:latin typeface="Arial"/>
              </a:rPr>
              <a:t>Quadratic &amp; Trigonometric Relationships</a:t>
            </a:r>
            <a:r>
              <a:rPr b="1" lang="en-CA" sz="2800" spc="-1" strike="noStrike">
                <a:solidFill>
                  <a:srgbClr val="21d1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3640" y="50706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90d8"/>
                </a:solidFill>
                <a:latin typeface="Arial"/>
              </a:rPr>
              <a:t>Sessions  4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6280" y="1904760"/>
            <a:ext cx="78595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would the function change if the given point (-1, 5) changed to (-1, -5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A21-2F71-407B-B476-F35B418F8D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Parallel Task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one of the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orm a group with others working on the sa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mplete the task by selecting one of the questions and then prompt each other using the follow-up question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atch the parallel task to a big idea and then find all the expectations that are addressed by the two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B44-ECD5-4BE9-AF25-0616C6D758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8400" y="169992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Arial"/>
              </a:rPr>
              <a:t>Break Tim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– 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15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alk the Walk &amp; Talk th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222876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67080"/>
            <a:ext cx="3240000" cy="373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79640" y="2960640"/>
            <a:ext cx="1590840" cy="24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AFC-0B23-4FB0-B36A-F6F2E48CD5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3280" y="1376280"/>
            <a:ext cx="5472000" cy="314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959280" cy="28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62520" y="495468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cord your thinking on your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152-A687-4FAE-A29A-F04290CBF7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…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orm teams of four (walker, calculator operator, CBR manager, record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one of the walks pictured or create your own.  See BLM 3.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Discuss and record how you will “Walk the Walk”  to make the graph and use this knowledge to create a similar graph with a graphing calculator and a CB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0F7-A24C-4282-87C8-9101309DF6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6360" y="170028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981440" cy="1319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04836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60684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871640" y="173664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F13-B389-498F-B333-4F2B4A3B01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ole group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Why is this a parallel/open tas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Scaffolding question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cepts covered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Rates of change, periodic nature of walk, maximum, minimum, intervals of increase and decrease, points of inflec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nection to big idea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Talk the Tal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694-0A0B-4A52-A19B-E2F1C55537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Create a Parallel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844640"/>
            <a:ext cx="777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748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a big idea and an overall expectation from either a quadratic relations strand or a trig. functions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sider the potential struggles that students might encounter with this big idea or expec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reate a lesson goal and an appropriate parallel task that addresses that expec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154-079E-4FFC-A420-7C5CA3FA49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490d8"/>
                </a:solidFill>
                <a:latin typeface="Arial"/>
              </a:rPr>
              <a:t>Consolidate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– Revisiting l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change parallel tasks f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84A-A2C0-4D1E-9471-C9B3B894BB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539640" y="981000"/>
            <a:ext cx="820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Modeling in a </a:t>
            </a:r>
            <a:br>
              <a:rPr sz="4800"/>
            </a:b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CAD-8B28-4FDE-B75E-31885C041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nsolidate / Debrief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2894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33399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6540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5DF-22F4-414B-A925-B43A9BADBA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C:\Users\Chili\AppData\Local\Microsoft\Windows\Temporary Internet Files\Content.IE5\BH9ZW7WV\MCj03963280000[1].wmf"/>
          <p:cNvPicPr/>
          <p:nvPr/>
        </p:nvPicPr>
        <p:blipFill>
          <a:blip r:embed="rId1"/>
          <a:srcRect l="25091" t="18386" r="64461" b="18386"/>
          <a:stretch/>
        </p:blipFill>
        <p:spPr>
          <a:xfrm>
            <a:off x="7358040" y="3429000"/>
            <a:ext cx="357120" cy="221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3" name="Picture 13" descr="C:\Users\Chili\AppData\Local\Microsoft\Windows\Temporary Internet Files\Content.IE5\X3U5RRU8\MMj03566040000[1].gif"/>
          <p:cNvPicPr/>
          <p:nvPr/>
        </p:nvPicPr>
        <p:blipFill>
          <a:blip r:embed="rId2"/>
          <a:stretch/>
        </p:blipFill>
        <p:spPr>
          <a:xfrm>
            <a:off x="4643280" y="371484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785880" y="20001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lease fill in your exit card and hand it in to one of us as you leave!</a:t>
            </a:r>
            <a:r>
              <a:rPr b="0" lang="en-CA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8" descr="C:\Users\Chili\AppData\Local\Microsoft\Windows\Temporary Internet Files\Content.IE5\BH9ZW7WV\MCj03963280000[1].wmf"/>
          <p:cNvPicPr/>
          <p:nvPr/>
        </p:nvPicPr>
        <p:blipFill>
          <a:blip r:embed="rId3"/>
          <a:srcRect l="35579" t="18386" r="22630" b="10197"/>
          <a:stretch/>
        </p:blipFill>
        <p:spPr>
          <a:xfrm>
            <a:off x="7715160" y="342900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676-A1AC-48B4-968B-15B76232EA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Highlight the importance of being conscious and explicit about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BBE-DEBE-4D55-BAF3-210F0335EB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1d15c"/>
                </a:solidFill>
                <a:latin typeface="Arial"/>
              </a:rPr>
              <a:t>Minds On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– 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Determine the equation of a function with the following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1680" y="2928960"/>
          <a:ext cx="7358040" cy="265284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4 and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          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6143760" y="4500720"/>
                <a:ext cx="97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4643280" y="4929120"/>
                <a:ext cx="973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502-7A3D-486D-AD53-0588099986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draw a 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use algebr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ich did you do fir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D58-5904-4B2F-9386-3C463E5A72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Could you have predicted whether the ‘a’ value was positive or negative before you actually calculat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2E1-DD79-4408-BDCC-37241E163D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Is the value of ‘a’ what you exp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F3E-630D-4ACA-B4C1-D6DF6AD886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need all three pieces of inform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y?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D81-4D80-465C-B4BC-4C62423A14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did you determine the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A99-904D-4524-9145-4A1A50C6D0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33:56Z</dcterms:created>
  <dc:creator>Myrna Ingalls</dc:creator>
  <dc:description/>
  <dc:language>en-US</dc:language>
  <cp:lastModifiedBy>Peel District School Board</cp:lastModifiedBy>
  <dcterms:modified xsi:type="dcterms:W3CDTF">2009-08-21T13:08:14Z</dcterms:modified>
  <cp:revision>153</cp:revision>
  <dc:subject/>
  <dc:title>OAME Leadership</dc:title>
</cp:coreProperties>
</file>